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F93CF-39E0-40FA-B1DD-DF255A869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49975-2334-432A-BDBF-F71D94E12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52E5C-EFD8-4DCC-99F4-AD9FF31D7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E7B49-B792-43E5-A60D-3D31A8EFC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91EF6-F317-4B37-9AAD-89FA02CFF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C4D0D-FBE7-4925-80B1-C8646C021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4CB36-35EF-4A7D-B32B-A331F818D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0E4E8-DD2C-43F5-9FB7-2301C12A5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FC5EC-6081-496A-8945-FA91EC0F1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620F0-7EAA-40E9-A907-9D090486E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6EA2D-6944-48C4-9B40-48ABB25F9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89AFF-479F-4FCA-8273-71D9858EA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E7AB-7B33-41A7-9448-A193317418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990360"/>
            <a:ext cx="8534520" cy="1523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Patterns of Deductive &amp; Inductive Reason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28600" y="4572000"/>
            <a:ext cx="8610480" cy="12952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qar Hussain - Visiting Faculty</a:t>
            </a: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artment of Education, The Islamic University of Bahawalpur</a:t>
            </a: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il: gondal369@gmail.co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28600" y="304920"/>
            <a:ext cx="8686800" cy="6400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everyone you know brushes his teeth every day, you may generalize that most people probably do thi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human beings, we generalize </a:t>
            </a:r>
            <a:r>
              <a:rPr b="0" i="1" lang="en-US" sz="2400" spc="-1" strike="noStrike">
                <a:solidFill>
                  <a:srgbClr val="000000"/>
                </a:solidFill>
                <a:latin typeface="Calibri"/>
              </a:rPr>
              <a:t>a lot</a:t>
            </a:r>
            <a:r>
              <a:rPr b="0" lang="en-US" sz="2400" spc="-1" strike="noStrike">
                <a:solidFill>
                  <a:srgbClr val="000000"/>
                </a:solidFill>
                <a:latin typeface="Calibri"/>
              </a:rPr>
              <a:t>. It essentially gets us through the day. If we didn't generalize, we'd have trouble talking with others, making decisions, or expressing our preferenc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izations can get us into a lot of trouble too. Think about the prejudices people hold about your particular age group, ethnic group, or gender, for instance. Not every generalization will be accurate for a whole group, and so it's important to recognize that generalizations have their limitations.</a:t>
            </a:r>
            <a:endParaRPr b="0" lang="en-US" sz="2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If everyone you know brushes his teeth every day, you may generalize that most people probably do this.</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2" name="Picture 2" descr=""/>
          <p:cNvPicPr/>
          <p:nvPr/>
        </p:nvPicPr>
        <p:blipFill>
          <a:blip r:embed="rId1"/>
          <a:stretch/>
        </p:blipFill>
        <p:spPr>
          <a:xfrm>
            <a:off x="2367000" y="4114800"/>
            <a:ext cx="2971800" cy="213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edictive Argument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Every time I stop flossing my teeth, I start to develop gingivitis. If I stop flossing again, I will develop gingivitis again.''</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n example of a </a:t>
            </a:r>
            <a:r>
              <a:rPr b="1" lang="en-US" sz="2400" spc="-1" strike="noStrike">
                <a:solidFill>
                  <a:srgbClr val="000000"/>
                </a:solidFill>
                <a:latin typeface="Calibri"/>
              </a:rPr>
              <a:t>predictive argument</a:t>
            </a:r>
            <a:r>
              <a:rPr b="0" lang="en-US" sz="2400" spc="-1" strike="noStrike">
                <a:solidFill>
                  <a:srgbClr val="000000"/>
                </a:solidFill>
                <a:latin typeface="Calibri"/>
              </a:rPr>
              <a:t>. This type of inductive reasoning uses past experience to conclude that something that happened in the past will likely occur again, if the conditions are the sam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might not get gingivitis after all, but your experience tells you that this will </a:t>
            </a:r>
            <a:r>
              <a:rPr b="0" i="1" lang="en-US" sz="2400" spc="-1" strike="noStrike">
                <a:solidFill>
                  <a:srgbClr val="000000"/>
                </a:solidFill>
                <a:latin typeface="Calibri"/>
              </a:rPr>
              <a:t>likely</a:t>
            </a:r>
            <a:r>
              <a:rPr b="0" lang="en-US" sz="2400" spc="-1" strike="noStrike">
                <a:solidFill>
                  <a:srgbClr val="000000"/>
                </a:solidFill>
                <a:latin typeface="Calibri"/>
              </a:rPr>
              <a:t> happen if you drop flossing from your regular routi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guments from Authority</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Dentists agree that it's important to brush and floss daily. This will help to prevent dental problems down the road.''</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argument isn't about my personal experience or about the experiences of people I know. This conclusion is reached as a result of an </a:t>
            </a:r>
            <a:r>
              <a:rPr b="1" lang="en-US" sz="2400" spc="-1" strike="noStrike">
                <a:solidFill>
                  <a:srgbClr val="000000"/>
                </a:solidFill>
                <a:latin typeface="Calibri"/>
              </a:rPr>
              <a:t>argument from authority</a:t>
            </a:r>
            <a:r>
              <a:rPr b="0" lang="en-US" sz="2400" spc="-1" strike="noStrike">
                <a:solidFill>
                  <a:srgbClr val="000000"/>
                </a:solidFill>
                <a:latin typeface="Calibri"/>
              </a:rPr>
              <a:t>. In other words, I'm deferring to the opinion of the experts who likely know about this topic.</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a bad approach, right? Of course, like any inductive argument, there is a chance with arguments from authority that the experts won't know all of the answers, or that the answer could change over time as more is known in their fie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usal Argument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When children eat a lot of sugar, they get more cavities. Therefore, sugar causes cavitie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we have a </a:t>
            </a:r>
            <a:r>
              <a:rPr b="1" lang="en-US" sz="2400" spc="-1" strike="noStrike">
                <a:solidFill>
                  <a:srgbClr val="000000"/>
                </a:solidFill>
                <a:latin typeface="Calibri"/>
              </a:rPr>
              <a:t>causal argument</a:t>
            </a:r>
            <a:r>
              <a:rPr b="0" lang="en-US" sz="2400" spc="-1" strike="noStrike">
                <a:solidFill>
                  <a:srgbClr val="000000"/>
                </a:solidFill>
                <a:latin typeface="Calibri"/>
              </a:rPr>
              <a:t> that labels sugar as the culprit in the formation of cavities. Notice that in this argument there is a cause-and-effect relationship between two things: sugar and cavitie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we say something causes another, it is because we believe that the two events often occur together so frequently that the best explanation is that they are directly linked to one another.</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research, the word ''cause'' is not used as frequently as the word ''correlated''. Why is that? When we look deeper into a topic (such as what causes cavities), we can find other factors that also contribute. So while this is a common pattern of inductive reasoning, it's also one that needs its fair share of cautio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atistical Argument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90% of toothpaste sales are for toothpastes that include the additive fluoride. Using fluoride is probably good for dental health.''</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atistical arguments</a:t>
            </a:r>
            <a:r>
              <a:rPr b="0" lang="en-US" sz="2400" spc="-1" strike="noStrike">
                <a:solidFill>
                  <a:srgbClr val="000000"/>
                </a:solidFill>
                <a:latin typeface="Calibri"/>
              </a:rPr>
              <a:t> don't just rely on our own experience. They reference studies that have researched a phenomenon or polled others for answ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51920" y="2666520"/>
            <a:ext cx="8991720" cy="2057400"/>
          </a:xfrm>
          <a:prstGeom prst="rect">
            <a:avLst/>
          </a:prstGeom>
          <a:noFill/>
          <a:ln w="0">
            <a:noFill/>
          </a:ln>
        </p:spPr>
        <p:txBody>
          <a:bodyPr anchor="t">
            <a:norm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s for Patience</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28240" y="914040"/>
            <a:ext cx="8534520" cy="525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aching Certainty</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rna, a scientist, is a major fan of </a:t>
            </a:r>
            <a:r>
              <a:rPr b="1" lang="en-US" sz="2400" spc="-1" strike="noStrike">
                <a:solidFill>
                  <a:srgbClr val="000000"/>
                </a:solidFill>
                <a:latin typeface="Calibri"/>
              </a:rPr>
              <a:t>deductive reasoning</a:t>
            </a:r>
            <a:r>
              <a:rPr b="0" lang="en-US" sz="2400" spc="-1" strike="noStrike">
                <a:solidFill>
                  <a:srgbClr val="000000"/>
                </a:solidFill>
                <a:latin typeface="Calibri"/>
              </a:rPr>
              <a:t> . Deductive reasoning involves taking valid premises and ultimately reaching a conclusion that is airtight. Unlike </a:t>
            </a:r>
            <a:r>
              <a:rPr b="1" lang="en-US" sz="2400" spc="-1" strike="noStrike">
                <a:solidFill>
                  <a:srgbClr val="000000"/>
                </a:solidFill>
                <a:latin typeface="Calibri"/>
              </a:rPr>
              <a:t>inductive reasoning</a:t>
            </a:r>
            <a:r>
              <a:rPr b="0" lang="en-US" sz="2400" spc="-1" strike="noStrike">
                <a:solidFill>
                  <a:srgbClr val="000000"/>
                </a:solidFill>
                <a:latin typeface="Calibri"/>
              </a:rPr>
              <a:t>, which aims to arrive at a conclusion that is simply likely or probable, deduction is all about premises leading to a certain, specific conclusion.</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a scientist, Lorna uses both approaches. In this lesson, we'll follow Lorna as she teaches her new intern, Pete, about deductive reaso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28600" y="304920"/>
            <a:ext cx="8686800" cy="640080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llogism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te's first question for Lorna about this form of logic is, ''How can you possibly be certain about your conclusions? Isn't there always room for error?''</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rna explains that since arguments can be flawed in many ways, deductive arguments can only occur in certain specific patterns that ensure the conclusions are more solid. Only certain circumstances call for this approach.</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common pattern of deductive reasoning is the </a:t>
            </a:r>
            <a:r>
              <a:rPr b="1" lang="en-US" sz="2400" spc="-1" strike="noStrike">
                <a:solidFill>
                  <a:srgbClr val="000000"/>
                </a:solidFill>
                <a:latin typeface="Calibri"/>
              </a:rPr>
              <a:t>syllogism</a:t>
            </a:r>
            <a:r>
              <a:rPr b="0" lang="en-US" sz="2400" spc="-1" strike="noStrike">
                <a:solidFill>
                  <a:srgbClr val="000000"/>
                </a:solidFill>
                <a:latin typeface="Calibri"/>
              </a:rPr>
              <a:t>. The basic format of a syllogism involves two premises, leading to a conclusion.</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articular type of syllogism, known as a </a:t>
            </a:r>
            <a:r>
              <a:rPr b="1" lang="en-US" sz="2400" spc="-1" strike="noStrike">
                <a:solidFill>
                  <a:srgbClr val="000000"/>
                </a:solidFill>
                <a:latin typeface="Calibri"/>
              </a:rPr>
              <a:t>categorical syllogism</a:t>
            </a:r>
            <a:r>
              <a:rPr b="0" lang="en-US" sz="2400" spc="-1" strike="noStrike">
                <a:solidFill>
                  <a:srgbClr val="000000"/>
                </a:solidFill>
                <a:latin typeface="Calibri"/>
              </a:rPr>
              <a:t>, would include an argument like thi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spiders are arachnids. (Premis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arachnids have eight legs. (Premis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all spiders have eight legs. (Conclusion)</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llogisms</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way to spot a categorical syllogism is by taking note of the </a:t>
            </a:r>
            <a:r>
              <a:rPr b="0" i="1" lang="en-US" sz="2400" spc="-1" strike="noStrike">
                <a:solidFill>
                  <a:srgbClr val="000000"/>
                </a:solidFill>
                <a:latin typeface="Calibri"/>
              </a:rPr>
              <a:t>three</a:t>
            </a:r>
            <a:r>
              <a:rPr b="0" lang="en-US" sz="2400" spc="-1" strike="noStrike">
                <a:solidFill>
                  <a:srgbClr val="000000"/>
                </a:solidFill>
                <a:latin typeface="Calibri"/>
              </a:rPr>
              <a:t> categories, each used </a:t>
            </a:r>
            <a:r>
              <a:rPr b="0" i="1" lang="en-US" sz="2400" spc="-1" strike="noStrike">
                <a:solidFill>
                  <a:srgbClr val="000000"/>
                </a:solidFill>
                <a:latin typeface="Calibri"/>
              </a:rPr>
              <a:t>twice</a:t>
            </a:r>
            <a:r>
              <a:rPr b="0" lang="en-US" sz="2400" spc="-1" strike="noStrike">
                <a:solidFill>
                  <a:srgbClr val="000000"/>
                </a:solidFill>
                <a:latin typeface="Calibri"/>
              </a:rPr>
              <a:t> in the argument: spiders, arachnids, and eight leg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rna points out that if the premises of this argument about spiders are true, then it follows that, without a doubt, the conclusion must be true. It's not a matter of it being likely or probable. Deductive reasoning leads us to only one logical conclusion in this case: If the first two statements are accurate, then spiders have eight legs, end of sto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rna tells Pete about another type of syllogism, the </a:t>
            </a:r>
            <a:r>
              <a:rPr b="1" lang="en-US" sz="2400" spc="-1" strike="noStrike">
                <a:solidFill>
                  <a:srgbClr val="000000"/>
                </a:solidFill>
                <a:latin typeface="Calibri"/>
              </a:rPr>
              <a:t>hypothetic syllogism</a:t>
            </a:r>
            <a:r>
              <a:rPr b="0" lang="en-US" sz="2400" spc="-1" strike="noStrike">
                <a:solidFill>
                  <a:srgbClr val="000000"/>
                </a:solidFill>
                <a:latin typeface="Calibri"/>
              </a:rPr>
              <a:t>. She gives an exampl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make me hold a spider, I will definitely scream.</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I scream, I will hurt your ear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if you make me hold a spider, I'm going to end up hurting your ear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the ''if, then'' format is hypothetical, stating that ''If you make me hold a spider'' something will happen as a result. Another premise follows and, like a chain reaction, the conclusion will state that the first ''if'' will lead to the last ''then''.</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ice that there's only one logical conclusion here if the premises are true. The argument doesn't state, I </a:t>
            </a:r>
            <a:r>
              <a:rPr b="0" i="1" lang="en-US" sz="2400" spc="-1" strike="noStrike">
                <a:solidFill>
                  <a:srgbClr val="000000"/>
                </a:solidFill>
                <a:latin typeface="Calibri"/>
              </a:rPr>
              <a:t>might</a:t>
            </a:r>
            <a:r>
              <a:rPr b="0" lang="en-US" sz="2400" spc="-1" strike="noStrike">
                <a:solidFill>
                  <a:srgbClr val="000000"/>
                </a:solidFill>
                <a:latin typeface="Calibri"/>
              </a:rPr>
              <a:t> scream, or my scream </a:t>
            </a:r>
            <a:r>
              <a:rPr b="0" i="1" lang="en-US" sz="2400" spc="-1" strike="noStrike">
                <a:solidFill>
                  <a:srgbClr val="000000"/>
                </a:solidFill>
                <a:latin typeface="Calibri"/>
              </a:rPr>
              <a:t>might</a:t>
            </a:r>
            <a:r>
              <a:rPr b="0" lang="en-US" sz="2400" spc="-1" strike="noStrike">
                <a:solidFill>
                  <a:srgbClr val="000000"/>
                </a:solidFill>
                <a:latin typeface="Calibri"/>
              </a:rPr>
              <a:t> hurt your ears. Those premises are stated as true statements without exception. If they are accurate, the conclusion is also accurat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gument by Elimination</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te wonders about another way to reach a logical conclusion. He's taking exams for college and has found that sometimes in multiple choice tests, he can be sure of the correct answer even when he doesn't know the material well enough to choose that answer.</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rna asks Pete to explain more about what he mean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say you have answers A, B, C, and D,'' he says. ''And, let's say I know for sure that the answer is not A, B, or D. This means I am sure that the answer is C, even if I don't actually have the knowledge to confirm it.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rna nods her head. This is also a pattern in deductive reasoning. It’s known as an argument by elimination. You essentially knock out all of the other possibilities. This only works in cases where there are no other options. In a fill in the blank test, argument by elimination won’t help y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thematical Arguments</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te has another example he thinks is deductive reasoning. ''What about when I'm calculating a number, like if I have to convert miles to kilometers? If I know how many kilometers are in one mile, I can deduce how many kilometers are in, say, seventeen miles through simple math, righ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28600" y="304920"/>
            <a:ext cx="8686800" cy="6400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uctive Reasoning</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s a weird question for you: How do you know that when you go to bed tonight, you are going to have the same number of teeth in your mouth as you did when you woke up this morning?</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eems pretty likely that you'll get through the day without losing any of your teeth (or growing any new ones), right?</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your argument about your teeth is what is </a:t>
            </a:r>
            <a:r>
              <a:rPr b="0" i="1" lang="en-US" sz="2400" spc="-1" strike="noStrike">
                <a:solidFill>
                  <a:srgbClr val="000000"/>
                </a:solidFill>
                <a:latin typeface="Calibri"/>
              </a:rPr>
              <a:t>likely</a:t>
            </a:r>
            <a:r>
              <a:rPr b="0" lang="en-US" sz="2400" spc="-1" strike="noStrike">
                <a:solidFill>
                  <a:srgbClr val="000000"/>
                </a:solidFill>
                <a:latin typeface="Calibri"/>
              </a:rPr>
              <a:t> and </a:t>
            </a:r>
            <a:r>
              <a:rPr b="0" i="1" lang="en-US" sz="2400" spc="-1" strike="noStrike">
                <a:solidFill>
                  <a:srgbClr val="000000"/>
                </a:solidFill>
                <a:latin typeface="Calibri"/>
              </a:rPr>
              <a:t>probable</a:t>
            </a:r>
            <a:r>
              <a:rPr b="0" lang="en-US" sz="2400" spc="-1" strike="noStrike">
                <a:solidFill>
                  <a:srgbClr val="000000"/>
                </a:solidFill>
                <a:latin typeface="Calibri"/>
              </a:rPr>
              <a:t>, you are using </a:t>
            </a:r>
            <a:r>
              <a:rPr b="1" lang="en-US" sz="2400" spc="-1" strike="noStrike">
                <a:solidFill>
                  <a:srgbClr val="000000"/>
                </a:solidFill>
                <a:latin typeface="Calibri"/>
              </a:rPr>
              <a:t>inductive reasoning</a:t>
            </a:r>
            <a:r>
              <a:rPr b="0" lang="en-US" sz="2400" spc="-1" strike="noStrike">
                <a:solidFill>
                  <a:srgbClr val="000000"/>
                </a:solidFill>
                <a:latin typeface="Calibri"/>
              </a:rPr>
              <a:t> to argue that you'll go to bed with the same number of teeth you had upon waking.</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like </a:t>
            </a:r>
            <a:r>
              <a:rPr b="1" lang="en-US" sz="2400" spc="-1" strike="noStrike">
                <a:solidFill>
                  <a:srgbClr val="000000"/>
                </a:solidFill>
                <a:latin typeface="Calibri"/>
              </a:rPr>
              <a:t>deductive reasoning</a:t>
            </a:r>
            <a:r>
              <a:rPr b="0" lang="en-US" sz="2400" spc="-1" strike="noStrike">
                <a:solidFill>
                  <a:srgbClr val="000000"/>
                </a:solidFill>
                <a:latin typeface="Calibri"/>
              </a:rPr>
              <a:t>, which establishes what will </a:t>
            </a:r>
            <a:r>
              <a:rPr b="0" i="1" lang="en-US" sz="2400" spc="-1" strike="noStrike">
                <a:solidFill>
                  <a:srgbClr val="000000"/>
                </a:solidFill>
                <a:latin typeface="Calibri"/>
              </a:rPr>
              <a:t>necessarily</a:t>
            </a:r>
            <a:r>
              <a:rPr b="0" lang="en-US" sz="2400" spc="-1" strike="noStrike">
                <a:solidFill>
                  <a:srgbClr val="000000"/>
                </a:solidFill>
                <a:latin typeface="Calibri"/>
              </a:rPr>
              <a:t> follow the premises, inductive reasoning is still a type of assumption. In other words, our argument that we will have all of our teeth at day's end is our best educated guess based on reasonable premi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28600" y="304920"/>
            <a:ext cx="8686800" cy="6400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uctive Generalization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talk about some of the patterns used when we are thinking inductivel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is an old friend: </a:t>
            </a:r>
            <a:r>
              <a:rPr b="1" lang="en-US" sz="2400" spc="-1" strike="noStrike">
                <a:solidFill>
                  <a:srgbClr val="000000"/>
                </a:solidFill>
                <a:latin typeface="Calibri"/>
              </a:rPr>
              <a:t>generalization</a:t>
            </a:r>
            <a:r>
              <a:rPr b="0" lang="en-US" sz="2400" spc="-1" strike="noStrike">
                <a:solidFill>
                  <a:srgbClr val="000000"/>
                </a:solidFill>
                <a:latin typeface="Calibri"/>
              </a:rPr>
              <a:t>. We are making a generalization when we observe a pattern in some specific situations and then apply those observations to a much larger group or situa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Perhaps you believe that most people have some sort of dental hygiene routine, like brushing their teeth every day (or at least most days). You probably think that this is true because of the cases of people you know who brush their teeth regularly. Then you generalize to the larger population, concluding that it's likely most people do th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9:08:17Z</dcterms:created>
  <dc:creator>Anthony J. D'Alesandro</dc:creator>
  <dc:description/>
  <dc:language>en-US</dc:language>
  <cp:lastModifiedBy>Admin</cp:lastModifiedBy>
  <cp:lastPrinted>2019-10-31T18:24:09Z</cp:lastPrinted>
  <dcterms:modified xsi:type="dcterms:W3CDTF">2020-03-31T17:19:10Z</dcterms:modified>
  <cp:revision>79</cp:revision>
  <dc:subject/>
  <dc:title>DEDUCTIVE vs. INDUCTIVE REASONING</dc:title>
</cp:coreProperties>
</file>